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EE611-0D13-484B-A9E4-AB50EAB3EB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4BB1B5-4B33-4EA2-ABA9-D94C6FAF28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9BCF3-678F-44EB-8C09-8502BDCFDDE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312C6-C500-419E-A42E-01A4F8FE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9DFC0-AAEE-4F27-B360-824E52C3FB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5C1CAF-FDC0-4CDD-A098-E46F6EBF1A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90D3FE-47DC-4B10-8EC8-D964B7F3E1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32AA9D-7346-4115-B9CA-E09ADBBA37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A3283-8087-43EF-AE9A-DD231F970B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39F40-E0F3-4599-ABB3-2F875E25B0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08C2C-7AE2-48B9-8BB0-E1E9E71548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33E0-7372-4BA0-8F8C-9E50D8C104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B0976B6-556E-4308-8A54-B86B5B4D863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3048120"/>
            <a:ext cx="8445600" cy="1218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OH HAI WURLD!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s is test presentation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771560" y="4572000"/>
            <a:ext cx="661680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algn="ctr"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H HAI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4" name="" descr=""/>
          <p:cNvPicPr/>
          <p:nvPr/>
        </p:nvPicPr>
        <p:blipFill>
          <a:blip r:embed="rId1"/>
          <a:stretch/>
        </p:blipFill>
        <p:spPr>
          <a:xfrm>
            <a:off x="3556080" y="2133720"/>
            <a:ext cx="3047760" cy="203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